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3319-EFBA-4102-8F42-D08BFE6A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8ED-C59B-4CB8-9350-9E5EB73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6DB-BA4F-4A15-87CA-E99CA5BD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0DD-21AE-4285-867A-365D58E5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66D3-20BE-4EC9-A280-427ED57A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8FB4-770D-4433-B655-FB4F257B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7998-A475-41EF-AEB3-A258C726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3B4-D689-4C86-A464-7AFBE3E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E553-8F9D-4093-AF44-84B2F72E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C8B1-A039-4BAB-AF8A-4307DEEF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D102-1C41-4CF4-AFC1-9E355DD3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311-FC72-4468-989C-B05D9E0D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959E-95D8-42C6-8A0F-6FA91A3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37C-3D02-4320-AEAC-A6A64FE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9D3E-281B-4263-A57D-22150B22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C8DF-DB93-46E6-A9D7-87792845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7389-4637-451D-A178-D9F525C6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C99-0C29-47CD-898B-7E3C45C7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B7F-0580-4613-9D09-A21E68C4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F58-B5A5-452C-A10B-A9256F3B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961-C6FD-4923-8735-9A6190DA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53D-63FF-4A3F-AD93-FF9B0A1E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965-6908-45B7-B979-16C5B4E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D2F-FB74-40CC-918B-B13F3F48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CFE9-87C1-471C-B8C6-871514D09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CD3A-A13E-4657-8F7C-1B3264567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grizyni33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c94"/>
                </a:solidFill>
                <a:latin typeface="Times New Roman"/>
              </a:rPr>
              <a:t>Правила списан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Нормируемы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товарные потери (естественная убыль) списывают только, по итогам инвентаризации обнаружена недостача. Естественная убыль списывается за счёт предприя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Актируемые (предреализационные)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тери списываются с материально-ответственного лица по учетным ценам, также в момент инвентаризац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Технология списания качественных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Прямоугольник 5"/>
          <p:cNvSpPr/>
          <p:nvPr/>
        </p:nvSpPr>
        <p:spPr>
          <a:xfrm>
            <a:off x="1523880" y="914400"/>
            <a:ext cx="6172200" cy="53352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оздается комиссия (односторонняя или двухсторонняя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7" name="Прямая со стрелкой 7"/>
          <p:cNvCxnSpPr/>
          <p:nvPr/>
        </p:nvCxnSpPr>
        <p:spPr>
          <a:xfrm flipH="1">
            <a:off x="4570200" y="1525680"/>
            <a:ext cx="3600" cy="305280"/>
          </a:xfrm>
          <a:prstGeom prst="straightConnector1">
            <a:avLst/>
          </a:prstGeom>
          <a:ln w="2232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58" name="Прямоугольник 8"/>
          <p:cNvSpPr/>
          <p:nvPr/>
        </p:nvSpPr>
        <p:spPr>
          <a:xfrm>
            <a:off x="2971800" y="1905120"/>
            <a:ext cx="32004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Определяют количе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Прямая со стрелкой 10"/>
          <p:cNvCxnSpPr>
            <a:stCxn id="158" idx="2"/>
          </p:cNvCxnSpPr>
          <p:nvPr/>
        </p:nvCxnSpPr>
        <p:spPr>
          <a:xfrm>
            <a:off x="4571640" y="2374560"/>
            <a:ext cx="1080" cy="369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0" name="Прямоугольник 11"/>
          <p:cNvSpPr/>
          <p:nvPr/>
        </p:nvSpPr>
        <p:spPr>
          <a:xfrm>
            <a:off x="685800" y="2743200"/>
            <a:ext cx="74674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Документальное оформление товарных потерь (составление актов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1" name="Прямая со стрелкой 17"/>
          <p:cNvCxnSpPr/>
          <p:nvPr/>
        </p:nvCxnSpPr>
        <p:spPr>
          <a:xfrm flipH="1">
            <a:off x="4571640" y="3200040"/>
            <a:ext cx="2160" cy="3056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2" name="Прямоугольник 18"/>
          <p:cNvSpPr/>
          <p:nvPr/>
        </p:nvSpPr>
        <p:spPr>
          <a:xfrm>
            <a:off x="3048120" y="3581280"/>
            <a:ext cx="32004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Сумму товарных потерь списывают за счет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Прямая со стрелкой 20"/>
          <p:cNvCxnSpPr/>
          <p:nvPr/>
        </p:nvCxnSpPr>
        <p:spPr>
          <a:xfrm flipH="1">
            <a:off x="2133360" y="3961440"/>
            <a:ext cx="83880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4" name="Овал 21"/>
          <p:cNvSpPr/>
          <p:nvPr/>
        </p:nvSpPr>
        <p:spPr>
          <a:xfrm>
            <a:off x="228600" y="3962520"/>
            <a:ext cx="2209680" cy="99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Виновных ли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5" name="Прямая со стрелкой 27"/>
          <p:cNvCxnSpPr/>
          <p:nvPr/>
        </p:nvCxnSpPr>
        <p:spPr>
          <a:xfrm>
            <a:off x="6324120" y="3885840"/>
            <a:ext cx="762840" cy="15300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6" name="Овал 28"/>
          <p:cNvSpPr/>
          <p:nvPr/>
        </p:nvSpPr>
        <p:spPr>
          <a:xfrm>
            <a:off x="6858000" y="3962520"/>
            <a:ext cx="2133720" cy="761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рибыли 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Прямая со стрелкой 30"/>
          <p:cNvCxnSpPr/>
          <p:nvPr/>
        </p:nvCxnSpPr>
        <p:spPr>
          <a:xfrm flipH="1">
            <a:off x="4571640" y="4266720"/>
            <a:ext cx="2160" cy="38196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sp>
        <p:nvSpPr>
          <p:cNvPr id="168" name="Овал 31"/>
          <p:cNvSpPr/>
          <p:nvPr/>
        </p:nvSpPr>
        <p:spPr>
          <a:xfrm>
            <a:off x="3429000" y="4648320"/>
            <a:ext cx="2514600" cy="685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Поставщ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Прямоугольник 32"/>
          <p:cNvSpPr/>
          <p:nvPr/>
        </p:nvSpPr>
        <p:spPr>
          <a:xfrm>
            <a:off x="2895480" y="5715000"/>
            <a:ext cx="3810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65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5f03"/>
                </a:solidFill>
                <a:latin typeface="Times New Roman"/>
              </a:rPr>
              <a:t>Утверждение актов руководителем предприят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0" name="Прямая со стрелкой 34"/>
          <p:cNvCxnSpPr/>
          <p:nvPr/>
        </p:nvCxnSpPr>
        <p:spPr>
          <a:xfrm flipH="1">
            <a:off x="4570200" y="5411520"/>
            <a:ext cx="3600" cy="2293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1" name="Прямая со стрелкой 36"/>
          <p:cNvCxnSpPr/>
          <p:nvPr/>
        </p:nvCxnSpPr>
        <p:spPr>
          <a:xfrm>
            <a:off x="1599840" y="5029200"/>
            <a:ext cx="1143720" cy="91512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  <p:cxnSp>
        <p:nvCxnSpPr>
          <p:cNvPr id="172" name="Прямая со стрелкой 38"/>
          <p:cNvCxnSpPr/>
          <p:nvPr/>
        </p:nvCxnSpPr>
        <p:spPr>
          <a:xfrm flipH="1">
            <a:off x="6705360" y="4799520"/>
            <a:ext cx="1296000" cy="1220040"/>
          </a:xfrm>
          <a:prstGeom prst="straightConnector1">
            <a:avLst/>
          </a:prstGeom>
          <a:ln w="9360">
            <a:solidFill>
              <a:srgbClr val="ff97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озникают пр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портиров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ра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даже товар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 небрежном обращ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5" descr="xin_d100e666315e466aba3119b43941af1a"/>
          <p:cNvPicPr/>
          <p:nvPr/>
        </p:nvPicPr>
        <p:blipFill>
          <a:blip r:embed="rId1"/>
          <a:stretch/>
        </p:blipFill>
        <p:spPr>
          <a:xfrm>
            <a:off x="3581280" y="23623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253"/>
          <p:cNvPicPr/>
          <p:nvPr/>
        </p:nvPicPr>
        <p:blipFill>
          <a:blip r:embed="rId2"/>
          <a:stretch/>
        </p:blipFill>
        <p:spPr>
          <a:xfrm>
            <a:off x="3581280" y="22860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CAEUDH8WCA1N275FCAAMNHUKCAPCRK3NCA5ED7DQCA2QE62ECA97R4KTCAN9FVSJCAQNF17ECAX1DNTQCAB9XL8VCAOPO691CA9CIVHMCABV1E68CA3I8O34CAMFDT3WCAIMD0WLCARF3DE9CAT6JAQ4CAU5J4D2"/>
          <p:cNvPicPr/>
          <p:nvPr/>
        </p:nvPicPr>
        <p:blipFill>
          <a:blip r:embed="rId3"/>
          <a:stretch/>
        </p:blipFill>
        <p:spPr>
          <a:xfrm>
            <a:off x="6095880" y="990720"/>
            <a:ext cx="2819520" cy="1904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4"/>
          <a:stretch/>
        </p:blipFill>
        <p:spPr>
          <a:xfrm>
            <a:off x="5181480" y="4191120"/>
            <a:ext cx="39625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КЛАССИФИКАЦИЯ ТОВАРНЫХ ПОТЕРЬ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Товарные потер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альные потер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званные частичной                            вызванные частичной или пол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олной утратой                               утратой стоимост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ичественных или                              в денежном 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чественных характерист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вара в нат.выраже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кг,банки,бутылки,шт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CCAD24ZJTCAD4236VCAHGK0XECA0PP5B1CAGSUX39CANEU0WYCAR1BTSXCA18AQ46CA2BTRVOCAZ8FL1QCAN8NRF8CA6Q59Q1CAQD1D73CAZ4C1ONCA6UCURRCAE7UF3ICAD4QN2TCAVPCVAHCAX2B0YLCAKJSKRE"/>
          <p:cNvPicPr/>
          <p:nvPr/>
        </p:nvPicPr>
        <p:blipFill>
          <a:blip r:embed="rId1"/>
          <a:stretch/>
        </p:blipFill>
        <p:spPr>
          <a:xfrm>
            <a:off x="152280" y="350532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Деньги для расжигания огня"/>
          <p:cNvPicPr/>
          <p:nvPr/>
        </p:nvPicPr>
        <p:blipFill>
          <a:blip r:embed="rId2"/>
          <a:stretch/>
        </p:blipFill>
        <p:spPr>
          <a:xfrm>
            <a:off x="3962520" y="4191120"/>
            <a:ext cx="4876560" cy="2666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952800" y="2286000"/>
            <a:ext cx="48862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Товарные потер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оличественные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рмируемые - эти потери неизбежны, но их можно снизить благодаря строгому контролю за сохранением, подготовки товара к продаже, аккуратному отношению к товарно - материальным ценностя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181480" y="762120"/>
            <a:ext cx="36576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Каче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ктируемые - в отличие от количественных, списываются не по нормам, а по фактам возникновения – на основании ак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КОЛИЧЕСТВЕННЫЕ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тественная                        Предреализацио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быль                                                потер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ушка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злив                                 ликвидные                 неликви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пыл                       пригодные к продаже        не пригод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летучивание           по более низкой цене         к продаж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питывание               (шкура и ко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хание                     головы и плавни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й стеклянно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у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4"/>
          <p:cNvSpPr/>
          <p:nvPr/>
        </p:nvSpPr>
        <p:spPr>
          <a:xfrm flipH="1">
            <a:off x="4952520" y="1600200"/>
            <a:ext cx="12193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6858000" y="167652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3124080" cy="3352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гол плавники"/>
          <p:cNvPicPr/>
          <p:nvPr/>
        </p:nvPicPr>
        <p:blipFill>
          <a:blip r:embed="rId2"/>
          <a:stretch/>
        </p:blipFill>
        <p:spPr>
          <a:xfrm>
            <a:off x="2895480" y="4343400"/>
            <a:ext cx="304812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сушка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 из основ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чин естественной убыл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ов, содержащих вод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же в малых количествах(мармел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пыл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ойствене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лкоизмельченным продукта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происходит за счет удал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 продукта в виде пылев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астиц(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озлив –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о потери жидких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язких и мазеобразных продук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мёд, сметана, повидл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11813_43231995"/>
          <p:cNvPicPr/>
          <p:nvPr/>
        </p:nvPicPr>
        <p:blipFill>
          <a:blip r:embed="rId1"/>
          <a:stretch/>
        </p:blipFill>
        <p:spPr>
          <a:xfrm>
            <a:off x="5029200" y="152280"/>
            <a:ext cx="3429000" cy="160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5105520" y="2057400"/>
            <a:ext cx="4038480" cy="2438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4724280" y="4572000"/>
            <a:ext cx="4191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летучи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 счёт переход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летучих веществ в окружающ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еду(небольшие потери 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лкогольной продукци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питыв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тери жид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фракции продукта в упаковк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халва, квашеная капус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5486400" y="0"/>
            <a:ext cx="3276720" cy="3733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halva_235"/>
          <p:cNvPicPr/>
          <p:nvPr/>
        </p:nvPicPr>
        <p:blipFill>
          <a:blip r:embed="rId2"/>
          <a:stretch/>
        </p:blipFill>
        <p:spPr>
          <a:xfrm>
            <a:off x="5029200" y="3886200"/>
            <a:ext cx="4114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ыхание 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иологиче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сс распада энергетически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еществ и выделение энерг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плоды, яйца, му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й стеклянной посу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724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ec94"/>
                </a:solidFill>
                <a:latin typeface="Times New Roman"/>
              </a:rPr>
              <a:t>ПРИЧИНЫ</a:t>
            </a: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 ВОЗНИКНОВЕНИЯ КАЧЕСТВЕННЫХ ПОТЕРЬ: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кро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ют полную или частичную порчу товаров, делают невозможным использование их по назначению или снижает надежность(брожение: спиртовое, уксусное, маслянокислое, молочнокислое; гниение; ослизнение; плесневение; бомбаж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лог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вызываемые насекомыми(молью, жуками, гусеницами, тараканами, муравьями и т.д.), а так же грызунами( мыши, крыс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иохим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этим процессам подвержены «живые» продукты(плоды и овощ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изически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ы обусловлены механическими повреждениями или деформацией товара(деформация хлеба, раздавливание плодов и овощей, раскрошка кондитерских изделий, бой я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11T12:18:42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a0000000000010250600207f5200358026400</vt:lpwstr>
  </property>
  <property fmtid="{D5CDD505-2E9C-101B-9397-08002B2CF9AE}" pid="3" name="Version">
    <vt:r8>1</vt:r8>
  </property>
</Properties>
</file>